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C7DF-FC79-4F92-A75D-D194ACD65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12C8-4AD0-4FB1-B09E-7E69667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02BFBB-8DBD-4B0D-BDE8-30D657D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D8E7D1-AC13-4DE7-956C-ED5FF9C6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436D05-2439-4AF5-975F-F15D998B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0112B-80DA-448B-964E-FC36416A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37F186-792B-4C68-9404-8A4BD5AB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311B5-1FB9-46DC-8AB7-C14C4448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456BF-842E-4DC5-AE26-F77E0DD3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EF4F54-C866-4760-96F4-912B0057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28FC0D-56EE-4144-8305-FF0F4253D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B05B-1F37-4AB6-B588-B290F28A2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9EFF-EE7C-493D-812F-2939F4B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3BF8E-25DC-460F-8347-296D1E3C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AD232-80E5-420E-8D00-A6C1CB3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87496-82B1-41BA-8298-C9A4A0DF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087D3-FAA8-4D6F-8A95-E1457B9B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1C84-6444-4BD0-B541-FA09494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1FD0C-ADC6-4A72-B05C-846C871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D5A1A-E703-457F-AB3B-A8FC43E1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1407A-C52D-4526-AD7A-B134C73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4348A-0249-403F-A930-B631C92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2C81-E979-493E-86A7-906A5088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13C7-7653-44B6-BFBC-DD8298317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78A6-49FE-4B30-8FCA-7B69C87B2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774D07-10B1-4C28-983A-D103A272D0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3C886-9D32-4395-A645-9C9DC58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7C817-F12A-48B3-BA43-8EC0A76A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1EC896-B6F9-4DC4-A39F-4EAC90F9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820942-7BDB-4F36-9AAE-0212DF1A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258304-9EE3-46BC-B4C8-97A506F3D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D8508-C0CC-4ECD-9451-12F4EDD4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CE7893-2ABC-4A3B-9067-AD9E6EE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611CA-4C60-43ED-BF78-E1052A62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69C4D-06A5-4795-91DD-9537CBB9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190DF-2695-400D-9183-E825BD6C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81D3F9-236B-4DB4-8AD9-783C9817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26172F-D9E9-420A-9998-61F023CF3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53B5D-F2CD-4562-8BF7-4EC3C6A29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5A041-8865-4283-A233-78AEFAA4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988FD-6A1F-423C-A81C-930B5A2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CBBF5-67E4-4B76-9BC9-973AD4E8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66BF1-F9EC-44DF-970C-AEDB087B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370C3-BEF4-4E92-8D9B-98FFD6EA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F1A49-8AD7-414B-B027-1BCF20B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E7BCB-930C-4063-82AF-81587FA6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1AF14-0ED4-4759-AFE0-C60B1CF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2478D8-8274-4175-AB85-FFB050C6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79891-EAB9-40F6-A7D8-50A2C3C7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86D3E-9A75-4F55-B9C2-3DE6C25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0D2B8A-15CA-4F1B-8920-02E04F8AD2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5E6BC-7829-4A9D-A7D3-1318042134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26C28-5B18-4080-80CB-EE966CEE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413D-DB87-464E-BD59-1B1060D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033B4-3143-45EC-91B8-F315AE4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A3ACD-20C9-4282-9A10-B135830F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CEFEC-95A3-4C0D-87C0-AF2E9BF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B828E-8B12-453A-8E2B-70AF4163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45F8E-BA0F-4D81-95DD-9026706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753B3-6D1C-4762-B4DE-A1472CA8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9C2E-16E7-4ACE-91C9-C3205BA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C12D7-2E85-4013-B3BE-52BE8F26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AD340-C819-467A-8B17-9EB54705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D5700-713A-4D6D-BFBB-D9B9D3098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98000-C832-4A23-B410-9B19928A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62544-73A0-49A6-92AA-E5422C52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77B2A-368E-43A6-80E0-7A8BF33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F0C3E-F79B-4FA4-A851-F2B8DDB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489D3-773E-45F2-AA92-680DB737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C6FA8-928E-4138-A4AF-5AF13144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E15A8-8249-428E-94AC-9C8BEFCA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531AD-8BB5-4105-B074-753F64AC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E4604-F414-45C1-9CE6-FF466813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36643-14F2-4F92-9C66-737FBDB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E308B-13AA-46E4-8350-4B6CE70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0BE6-9E60-49FF-AA94-3092EA93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C3CE6-E1E7-4B7F-8AA9-841578CD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78F20-603B-4092-9911-1D9D982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18DFF-9319-4DD4-AA3E-BBF6422E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A0E76-CDEE-47B5-831E-3E68599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3029B-8F2A-4567-A24F-9512785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AEA09-7640-400F-BD4F-6467B768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164DA-BF13-4ED9-A5B5-82F9C6B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1ED5E-670A-4E58-BE3A-BAAC6567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7171C-4580-4E68-BC14-AC757920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A3C45-19FA-4ADC-8B72-82F0AF3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2A36-0610-4230-8DB2-084065D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7F9A7-414A-4DE6-84CA-EC2180D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9398E-3129-4D72-8BFE-C4E29056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8834B-FE3D-4290-9A8A-7B2D092B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66266-CCF7-4E83-A1F9-3840AC8F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EE7EA-6E1C-40E0-B32D-8960AB47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CE767-DACB-43B5-B6C3-1D4C19DC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57788-3CAB-45EF-9C21-411D576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7B7AE-33DD-4276-BCF7-CE48AFFF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928E-924D-43CE-895B-A91A235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44B65-9168-472B-8201-A8DF7E18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0A345-B9E8-4B19-869B-0682F7E5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9CEF-F619-45D1-8CDD-85C28AD7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EE266-C824-43FE-AEBA-008D729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AEFCF-436C-4BC9-BFCB-5715FFD5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79F3B-1F08-4081-B024-2BE38A6F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EBF8B-9234-4B51-83CF-8C45BCF3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5A84A-7098-407A-A995-A81B3B5C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F930C-302C-428F-BC99-80311FF7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7BA4A-D84F-437D-AD48-BDD687D4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DC585-0C3A-4249-890B-0ACCCC49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FDB9D-C3FB-4CD8-8A54-EDC2E38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E8709-D799-4925-8D51-E7A4C9F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1976B-CE71-40CA-93CB-61B0B752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04615-249F-4300-8D41-4144CA4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F207-4987-49BF-87DD-3738A85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7056D-FD21-453E-AEED-7E99B46E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80AF7-884B-4BFE-83B2-1B60C84C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09E8A-4F5E-4345-A594-A6A3A20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9077D-4A10-4BD3-A915-FCBF32EC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3B602-5978-42EC-B7C0-F62C51BA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51713A-ED75-4D9B-841C-0C9B2734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64BF5-2896-43E5-BBF6-46EB7FC2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8C903-CE64-456C-BEFA-790064E7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6412F-D7CA-451F-9D21-C5A52A0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47542-13CC-473C-8A74-DCDB2DA7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13CF9-A6DD-4595-9CD4-1B399A2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7B053-F436-446A-9F77-DC16DFA4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9191A-E45B-4035-91B6-1A607888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6F2BE-9167-4DB0-BB51-25DC91A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AB4C6-28AA-48A0-B78C-14660813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34589-C818-40D7-A23D-E0DA37F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814E8-05A9-4B12-BD46-9F0FC453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EDBBA-D63E-4217-AD9A-9B693DF0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48AF5-3D7D-4783-A270-42D782B7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CFB05-B181-4881-8AD4-16485C8E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0C3C4-09F3-4AD0-9A64-9419BDBE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CFE9F-BE20-4006-912C-EBD546E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4C9C2-CB9F-4C61-99B9-07D27C5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9B396-2AC6-4FC5-978C-3B3C835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8B3E9-1B6A-43F7-907B-42E6EA85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2DCE5-8557-4054-A4BC-3758FE1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E00C9-3E77-4632-A391-18F736DC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A2E91-1134-4876-BE36-7EBB1757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EA722-AC69-418C-AA8A-A9BA682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DD776-A2FE-4CE8-AA5E-E55F67D4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8410C-D341-40B4-9C62-C5DDADE3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9DB2C-EF40-4008-914B-6455A668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527F3B-4A8A-4685-990A-DDA5ADB7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41A57-2569-41AD-BB1B-0376139D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238DE-D03B-48DF-9181-5A9AB8F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8CED5-B0BA-47A7-932D-F727B848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885A8-C6A1-4315-AE1B-42FDB338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7A9E9-35D2-427D-B69A-0D65BD2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7C226-9C1A-4CBE-8B8F-3CDB8BFC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4B48C-87B6-422D-A3AE-85E65916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EDABC-BEF4-48C2-9975-BD94B6D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2503B-198C-4885-87F3-DF26A6C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2F755-710A-4E5A-A64C-86FAFDE7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B9854-61EA-4B17-A9BE-40538B1D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CFF04-7BB7-4346-8D3A-D9C77BFD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3DCA4-4C16-47D2-B48F-C1E031F1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35187-0A5B-4E57-8189-D180F709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12F393-9818-48C7-B410-623EDF4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99E27C-1B90-486C-81C1-F137DDFB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15B3C-E63E-451D-9BC5-D7EECD88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C450D-A86C-4478-8E24-EF814102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93343-BE95-4932-BE8A-02AD3BC1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C6D9A6-0EC5-4DBE-9ECE-4061C02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1DF11-DEB4-4B57-BEE9-972BD87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31C2E-4EC2-4868-9715-5458572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8B969-B448-46F1-96DA-5E1CEFEBC7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33AE6-3210-4464-A1C5-6994E035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8478F-225E-4872-8666-13EEF9D4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049B3-2300-4C0E-97C2-A7EE9B6F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D5D7E-B612-4F0A-96D0-676263D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578B65-90F5-474B-8A68-C18E1F0D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99226F-0167-4BEB-9E2F-D6ECC05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C5A9A-A8C6-42D5-A370-387622BA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AE6B6-1A91-43D0-825D-8A31F687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FEC19-3670-4CB6-853F-0333B723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CE8E3-436E-4107-B8D8-D3908325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2A176-3FE6-4049-88BA-822C08F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3440D7-A31E-436F-91A3-34E4450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EE2B9-0CB4-4F05-B5AD-78C238C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9F10D-A9CE-4174-AA93-75645421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3D3AA-5AF4-474F-8BE3-675CEB2B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85EB5-295C-453F-A4F6-A53E1BDB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2785B-3F73-4C59-9407-D41095F8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E0BB3-1149-42BE-89F2-9163B78A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1BB1E-3235-436C-BA28-EAFE77B8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6D416-5AF3-4192-BC42-4C8EA73B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73E1C-BCB4-4370-BA16-9CC52EDD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1041B-98EF-4EAC-9C15-D8DD1A64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C28B4-3370-4269-8EB1-B656ABF0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028CA-2C58-4AE5-BF81-B63613C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52F57-9871-4153-8E6A-E3C94B5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9F561-DA77-4F99-96D9-BA14E7A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EB1DA-3572-445D-87FA-11FB343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20375-BDEA-4042-9650-3571B78A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EF4B4-84CA-4BD4-8FD3-7A322EE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246356-63EA-4CE9-B348-853FBE32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0747D8-9B8D-4DC5-82DE-84A8E40A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51F77-B6C9-48CF-925F-E84C8CA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16972-43A3-42D7-8E1B-F6B48CFF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488C9-3C64-4633-AE90-1FF18AD9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3F4D1-A21F-49A3-A341-0EFA1218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C4FD9-8871-4A3F-B3AD-4B6C22D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551168-308B-4A97-AF38-4147149B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47E5B-B74E-444F-B794-EE137A52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B90614-84A0-45A4-AE6E-0740A5F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1F8206-C333-4CF5-897C-79258E7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B9F62-F4B9-4E00-9373-B9E90B20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7424D-1537-42B2-80CA-25F4E69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CCAF7-4149-4A0F-9F50-E0F942DB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1B77-F050-495B-87F6-AA0D0E44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DDC8A5-0DA2-4741-B05B-F59AD859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1ED33-11A1-457D-93FD-7BF481A7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6A684-065E-4C19-A7EE-BA9BBDBA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0EC40A-3A37-43D5-B61C-5B76C6CD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29A95-A54A-4D44-A807-1442DC6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87B51-81C6-4086-925A-1B602282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03BD0-47C5-4CC2-A358-D78BB06CB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8577-DC4C-44F9-A526-4C2AAED1D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A6090-40A0-4917-8DE8-F6EF2C4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F6C2-DD6D-4A0B-A500-A2395561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406C-6EE8-4327-85BF-148C9235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87E3-DB7D-42FD-8437-2B2E76D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0D86-6A71-4ECA-B2C8-8750E50C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BA2C8-F8AB-4B71-BBD0-D6271BFD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DB30-05A9-4598-9CBB-F05FE5F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37D1-9D76-4805-960A-9260155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5E43-9EFB-41CB-8EF5-4C7CDF5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3094-1984-49FB-AD5C-A471BE1F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37DB-4EB5-4483-8FE4-C97CFAA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D3B07-281C-4290-B099-6AE54D7F6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37484-F6CE-419D-B27B-B68EE3858C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6401-3F6C-4797-BA1A-E0FA1EAD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6A01C-F902-4315-AD5D-4E409E9A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26A58-5537-44D7-916F-2812A98E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614ECF-9589-4748-B9C7-5DD4C862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44DDE-1BC2-4D23-83FA-D428F539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B21E62-6760-4619-BDAC-05E7082B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A8C0C-FD13-454A-90D1-D57625CB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43BA2-C258-4522-9FC2-67B5E51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7EC148-B278-4EB9-AB3C-24AF2D72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D8FD4-9FA9-41FB-80D2-F1FE9461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5FB83-5F4A-436B-B1E6-7906808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3B9A-FF3B-4945-9940-0CE4A9DB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3B240-435A-481B-B90D-C31BD122E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94C68D-BD13-4E2A-8B9C-4D3A71F1C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F5E8C3-330F-428A-84C9-41D4BC6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1813C-A994-42D6-9C46-A284D8D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BF97F-6749-471C-8D97-2625545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5E7856-C1BF-46EA-AE23-841F954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97B1D-230F-4E14-8F5F-D10336A5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B6AF3C-5261-4802-876C-39931621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4C749-7119-4EA8-ABD1-45850851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86AF4-4525-4208-B37E-6AC41202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C4BB-41BB-48A1-BE85-7FB5B731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F671F-C232-4E50-8403-42626FA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8DE84C-0B69-4B11-81B5-EB104861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85FE91-B924-4F60-A48D-F58E29B70C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A3DB-0AC1-44BD-8B53-547E0BB53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49C6F-26BA-445D-B5B1-CF6DFE11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6813-340E-4540-A433-BED221F1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5D3FF-FF49-46BF-9CA7-F6051964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C2AFD-784E-4BA7-A80D-926F6534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8D60D-84E1-46AF-A2F3-27D74A9C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D577B-9748-4BAD-9895-6FFADD66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51B9-F1B6-47AB-991E-93644AA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D941-FD6A-486F-80DA-425DA49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116A-E6DB-4D41-9535-078B4DA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C4A9-2428-4ECC-BFF8-E575E7CE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6B3B-D1BC-4BDE-97EC-59E47A8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235A-3A5F-4921-93AE-B5B35FC67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CA465-B205-4487-BC0B-B56EEC74D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3F331-FD1A-40BE-A0E9-BB8F0E9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F8692-5367-420C-A393-326CDB0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3F634-D2C1-4304-B6BF-671A4AC7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AA6A1-C8D4-4C8B-8390-B73AEDB2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45F4-EB67-4BC9-827E-7E83DF55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58607-5740-4776-B844-B4AA040D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D80D6-12F8-4606-8F1A-503BF7F5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501F0-127D-4082-9B96-9763ABC4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D5598-FF90-4E92-9F17-BFF66F89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BF117-DB0A-4D8A-AF8D-3A05700A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F0550-29F1-43EE-89CD-2710D12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A5F0D-AA6A-44F8-95F0-77E7BA8BE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09CCE-B628-40D9-BA9B-3903ED8D5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B62A38-152E-4E0C-9351-2FF90505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A4D73A-28BD-4ED0-9E57-BFC89C5D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404D-E6F7-41DF-BCAD-5CCF36F4F49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7828-A078-45B1-ADC3-DBB234FF99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2001-56B0-4F2D-91E8-1A26445019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E14-7F05-4A42-9768-79D7D8B75B9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375-BADF-49BC-A8DE-1746D593F8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BBEA-63A3-403B-974A-3A0E65A9FA6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805F-AD74-446B-ADE9-61F8DCF374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2930-1B52-4976-87E0-809F533F82A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27DE-C450-4ACB-AD38-6AE25A3F05B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86AE-7F6F-45B7-9785-F8F6B4B922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940D-5145-47F4-9427-344867888FB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3961-44B2-4E36-960B-6FEA1967C6D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86BB-7D76-455D-93C8-B258C4154E8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71D-70B1-4384-905D-3C43B20FDB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66AB-3F4B-448A-9843-557F0D36EC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598B-D9DD-4AD4-99B1-DCDF761C69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D5EE-5CD4-4AD5-AC43-9182C1DF712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8BEC-C8C3-4287-AB53-A75AB9FC86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C7A-E7DC-4130-BAFF-028E7BB893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0A81-C12B-469F-B3BC-EB958E7C1EE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CA9A-74AE-4702-8DF7-AA31D9B1DFF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1D3F-F2BF-4240-BE97-C6AE21005FD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1695-9A67-4B23-8E1A-3023FD1F708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A9FC-85CC-489E-875E-6AB826890D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30508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亿 以 内 数 的 改 写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9"/>
          <p:cNvSpPr/>
          <p:nvPr/>
        </p:nvSpPr>
        <p:spPr>
          <a:xfrm>
            <a:off x="500040" y="77004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们学会了读数和写数，现在大家来比一比，看谁能很快地写出下面的数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光的速度是每秒三十万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国国土面积是九百六十万平方千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6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我国有七十八万所中小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8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某乡镇去年的财政总收入是六千零二十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写作：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2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102096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0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3"/>
          <p:cNvSpPr/>
          <p:nvPr/>
        </p:nvSpPr>
        <p:spPr>
          <a:xfrm>
            <a:off x="0" y="714240"/>
            <a:ext cx="9072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0000  9600000  780000  60200000  3936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"/>
          <p:cNvSpPr/>
          <p:nvPr/>
        </p:nvSpPr>
        <p:spPr>
          <a:xfrm>
            <a:off x="0" y="1928880"/>
            <a:ext cx="6172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这些数有什么共同的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985680" y="2571840"/>
            <a:ext cx="6634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00000=3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600000=96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780000=7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60200000=602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9360000=3936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39940"/>
          <p:cNvSpPr/>
          <p:nvPr/>
        </p:nvSpPr>
        <p:spPr>
          <a:xfrm>
            <a:off x="6144840" y="1935000"/>
            <a:ext cx="21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都是整万的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组合 2"/>
          <p:cNvGrpSpPr/>
          <p:nvPr/>
        </p:nvGrpSpPr>
        <p:grpSpPr>
          <a:xfrm>
            <a:off x="0" y="85680"/>
            <a:ext cx="3244680" cy="525600"/>
            <a:chOff x="0" y="85680"/>
            <a:chExt cx="3244680" cy="525600"/>
          </a:xfrm>
        </p:grpSpPr>
        <p:pic>
          <p:nvPicPr>
            <p:cNvPr id="10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8568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80720"/>
              <a:ext cx="429840" cy="273600"/>
              <a:chOff x="0" y="180720"/>
              <a:chExt cx="429840" cy="273600"/>
            </a:xfrm>
          </p:grpSpPr>
          <p:sp>
            <p:nvSpPr>
              <p:cNvPr id="1018" name="椭圆 11"/>
              <p:cNvSpPr/>
              <p:nvPr/>
            </p:nvSpPr>
            <p:spPr>
              <a:xfrm rot="16200000">
                <a:off x="242640" y="3448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0780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42640" y="21816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1951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243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959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088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807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6" name="图片 40961" descr="5"/>
          <p:cNvPicPr/>
          <p:nvPr/>
        </p:nvPicPr>
        <p:blipFill>
          <a:blip r:embed="rId8"/>
          <a:stretch/>
        </p:blipFill>
        <p:spPr>
          <a:xfrm>
            <a:off x="457200" y="1292400"/>
            <a:ext cx="3276720" cy="209844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1"/>
          <p:cNvSpPr/>
          <p:nvPr/>
        </p:nvSpPr>
        <p:spPr>
          <a:xfrm>
            <a:off x="4384800" y="1955880"/>
            <a:ext cx="42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活动：介绍白细胞和红细胞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2"/>
          <p:cNvSpPr/>
          <p:nvPr/>
        </p:nvSpPr>
        <p:spPr>
          <a:xfrm>
            <a:off x="4384800" y="2478240"/>
            <a:ext cx="38671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宋体"/>
              </a:rPr>
              <a:t>问题：怎样把红、白细胞的数量改写成用“万” 作单位的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4648320" y="3579840"/>
            <a:ext cx="3603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去掉个级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宋体"/>
              </a:rPr>
              <a:t>，改写成一个“万”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组合 3"/>
          <p:cNvGrpSpPr/>
          <p:nvPr/>
        </p:nvGrpSpPr>
        <p:grpSpPr>
          <a:xfrm>
            <a:off x="3548160" y="946080"/>
            <a:ext cx="2208240" cy="381240"/>
            <a:chOff x="3548160" y="946080"/>
            <a:chExt cx="2208240" cy="381240"/>
          </a:xfrm>
        </p:grpSpPr>
        <p:sp>
          <p:nvSpPr>
            <p:cNvPr id="1031" name="文本框 40966"/>
            <p:cNvSpPr/>
            <p:nvPr/>
          </p:nvSpPr>
          <p:spPr>
            <a:xfrm>
              <a:off x="4560120" y="94788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红细胞：能输送氧气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圆角矩形标注 40967"/>
            <p:cNvSpPr/>
            <p:nvPr/>
          </p:nvSpPr>
          <p:spPr>
            <a:xfrm>
              <a:off x="3548160" y="946080"/>
              <a:ext cx="2208240" cy="381240"/>
            </a:xfrm>
            <a:prstGeom prst="wedgeRoundRectCallout">
              <a:avLst>
                <a:gd name="adj1" fmla="val -43750"/>
                <a:gd name="adj2" fmla="val 89999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2"/>
          <p:cNvGrpSpPr/>
          <p:nvPr/>
        </p:nvGrpSpPr>
        <p:grpSpPr>
          <a:xfrm>
            <a:off x="279360" y="3502080"/>
            <a:ext cx="1844640" cy="762120"/>
            <a:chOff x="279360" y="3502080"/>
            <a:chExt cx="1844640" cy="762120"/>
          </a:xfrm>
        </p:grpSpPr>
        <p:sp>
          <p:nvSpPr>
            <p:cNvPr id="1034" name="文本框 40965"/>
            <p:cNvSpPr/>
            <p:nvPr/>
          </p:nvSpPr>
          <p:spPr>
            <a:xfrm>
              <a:off x="279360" y="3562200"/>
              <a:ext cx="18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白细胞：能消灭病菌，清洁血液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圆角矩形标注 40968"/>
            <p:cNvSpPr/>
            <p:nvPr/>
          </p:nvSpPr>
          <p:spPr>
            <a:xfrm>
              <a:off x="285480" y="3502080"/>
              <a:ext cx="1828800" cy="762120"/>
            </a:xfrm>
            <a:prstGeom prst="wedgeRoundRectCallout">
              <a:avLst>
                <a:gd name="adj1" fmla="val -2777"/>
                <a:gd name="adj2" fmla="val -76666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探究新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八边形 7"/>
          <p:cNvSpPr/>
          <p:nvPr/>
        </p:nvSpPr>
        <p:spPr>
          <a:xfrm>
            <a:off x="374760" y="70020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4"/>
          <p:cNvGrpSpPr/>
          <p:nvPr/>
        </p:nvGrpSpPr>
        <p:grpSpPr>
          <a:xfrm>
            <a:off x="531720" y="4478400"/>
            <a:ext cx="5636520" cy="1839960"/>
            <a:chOff x="531720" y="4478400"/>
            <a:chExt cx="5636520" cy="1839960"/>
          </a:xfrm>
        </p:grpSpPr>
        <p:sp>
          <p:nvSpPr>
            <p:cNvPr id="1039" name="矩形 40970"/>
            <p:cNvSpPr/>
            <p:nvPr/>
          </p:nvSpPr>
          <p:spPr>
            <a:xfrm>
              <a:off x="4450320" y="5375520"/>
              <a:ext cx="79344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矩形 40971"/>
            <p:cNvSpPr/>
            <p:nvPr/>
          </p:nvSpPr>
          <p:spPr>
            <a:xfrm>
              <a:off x="4450320" y="5801040"/>
              <a:ext cx="793440" cy="360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文本框 40972"/>
            <p:cNvSpPr/>
            <p:nvPr/>
          </p:nvSpPr>
          <p:spPr>
            <a:xfrm>
              <a:off x="2324880" y="5237280"/>
              <a:ext cx="3843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红细胞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00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矩形 40973"/>
            <p:cNvSpPr/>
            <p:nvPr/>
          </p:nvSpPr>
          <p:spPr>
            <a:xfrm>
              <a:off x="531720" y="4478400"/>
              <a:ext cx="288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一小滴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血液含有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3" name="图片 40974" descr="21"/>
            <p:cNvPicPr/>
            <p:nvPr/>
          </p:nvPicPr>
          <p:blipFill>
            <a:blip r:embed="rId9"/>
            <a:stretch/>
          </p:blipFill>
          <p:spPr>
            <a:xfrm>
              <a:off x="758880" y="5016600"/>
              <a:ext cx="156600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文本框 40975"/>
            <p:cNvSpPr/>
            <p:nvPr/>
          </p:nvSpPr>
          <p:spPr>
            <a:xfrm>
              <a:off x="2311920" y="5650200"/>
              <a:ext cx="35672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白细胞：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2"/>
          <p:cNvSpPr/>
          <p:nvPr/>
        </p:nvSpPr>
        <p:spPr>
          <a:xfrm>
            <a:off x="5506920" y="5380200"/>
            <a:ext cx="309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宋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宋体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"/>
                            </p:stCondLst>
                            <p:childTnLst>
                              <p:par>
                                <p:cTn id="6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组合 1"/>
          <p:cNvGrpSpPr/>
          <p:nvPr/>
        </p:nvGrpSpPr>
        <p:grpSpPr>
          <a:xfrm>
            <a:off x="431640" y="706320"/>
            <a:ext cx="1886040" cy="459720"/>
            <a:chOff x="431640" y="706320"/>
            <a:chExt cx="1886040" cy="459720"/>
          </a:xfrm>
        </p:grpSpPr>
        <p:sp>
          <p:nvSpPr>
            <p:cNvPr id="1047" name="TextBox 3"/>
            <p:cNvSpPr/>
            <p:nvPr/>
          </p:nvSpPr>
          <p:spPr>
            <a:xfrm>
              <a:off x="536400" y="706320"/>
              <a:ext cx="17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理解题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缺角矩形 37"/>
            <p:cNvSpPr/>
            <p:nvPr/>
          </p:nvSpPr>
          <p:spPr>
            <a:xfrm>
              <a:off x="431640" y="826920"/>
              <a:ext cx="216000" cy="215640"/>
            </a:xfrm>
            <a:custGeom>
              <a:avLst/>
              <a:gdLst>
                <a:gd name="textAreaLeft" fmla="*/ 25200 w 216000"/>
                <a:gd name="textAreaRight" fmla="*/ 190800 w 21600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3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36" y="21600"/>
                  </a:lnTo>
                  <a:arcTo wR="3600" hR="3600" stAng="10800000" swAng="5400000"/>
                  <a:lnTo>
                    <a:pt x="2163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文本框 3"/>
          <p:cNvSpPr/>
          <p:nvPr/>
        </p:nvSpPr>
        <p:spPr>
          <a:xfrm>
            <a:off x="438120" y="1046160"/>
            <a:ext cx="826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都是整万数，把整万数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，就是把计数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0"/>
          <p:cNvGrpSpPr/>
          <p:nvPr/>
        </p:nvGrpSpPr>
        <p:grpSpPr>
          <a:xfrm>
            <a:off x="431640" y="2368440"/>
            <a:ext cx="6926400" cy="2354040"/>
            <a:chOff x="431640" y="2368440"/>
            <a:chExt cx="6926400" cy="2354040"/>
          </a:xfrm>
        </p:grpSpPr>
        <p:grpSp>
          <p:nvGrpSpPr>
            <p:cNvPr id="1051" name="组合 38"/>
            <p:cNvGrpSpPr/>
            <p:nvPr/>
          </p:nvGrpSpPr>
          <p:grpSpPr>
            <a:xfrm>
              <a:off x="431640" y="2368440"/>
              <a:ext cx="2148120" cy="459720"/>
              <a:chOff x="431640" y="2368440"/>
              <a:chExt cx="2148120" cy="459720"/>
            </a:xfrm>
          </p:grpSpPr>
          <p:sp>
            <p:nvSpPr>
              <p:cNvPr id="1052" name="TextBox 3"/>
              <p:cNvSpPr/>
              <p:nvPr/>
            </p:nvSpPr>
            <p:spPr>
              <a:xfrm>
                <a:off x="536040" y="2368440"/>
                <a:ext cx="204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解法探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缺角矩形 40"/>
              <p:cNvSpPr/>
              <p:nvPr/>
            </p:nvSpPr>
            <p:spPr>
              <a:xfrm>
                <a:off x="431640" y="248904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文本框 4"/>
            <p:cNvSpPr/>
            <p:nvPr/>
          </p:nvSpPr>
          <p:spPr>
            <a:xfrm>
              <a:off x="927000" y="2982600"/>
              <a:ext cx="6431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画出分级线，将整万数分成个级和万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0 0000                    1 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8"/>
            <p:cNvSpPr/>
            <p:nvPr/>
          </p:nvSpPr>
          <p:spPr>
            <a:xfrm>
              <a:off x="2402280" y="3695040"/>
              <a:ext cx="0" cy="4446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直接连接符 9"/>
            <p:cNvSpPr/>
            <p:nvPr/>
          </p:nvSpPr>
          <p:spPr>
            <a:xfrm>
              <a:off x="5024520" y="3704040"/>
              <a:ext cx="0" cy="444600"/>
            </a:xfrm>
            <a:prstGeom prst="line">
              <a:avLst/>
            </a:prstGeom>
            <a:ln w="2232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27"/>
          <p:cNvGrpSpPr/>
          <p:nvPr/>
        </p:nvGrpSpPr>
        <p:grpSpPr>
          <a:xfrm>
            <a:off x="950760" y="4146480"/>
            <a:ext cx="7007400" cy="1674360"/>
            <a:chOff x="950760" y="4146480"/>
            <a:chExt cx="7007400" cy="1674360"/>
          </a:xfrm>
        </p:grpSpPr>
        <p:grpSp>
          <p:nvGrpSpPr>
            <p:cNvPr id="1058" name="组合 24"/>
            <p:cNvGrpSpPr/>
            <p:nvPr/>
          </p:nvGrpSpPr>
          <p:grpSpPr>
            <a:xfrm>
              <a:off x="950760" y="4146480"/>
              <a:ext cx="7007400" cy="1615680"/>
              <a:chOff x="950760" y="4146480"/>
              <a:chExt cx="7007400" cy="1615680"/>
            </a:xfrm>
          </p:grpSpPr>
          <p:sp>
            <p:nvSpPr>
              <p:cNvPr id="1059" name="文本框 6"/>
              <p:cNvSpPr/>
              <p:nvPr/>
            </p:nvSpPr>
            <p:spPr>
              <a:xfrm>
                <a:off x="950760" y="4146480"/>
                <a:ext cx="7007400" cy="128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将个级的四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省略，换成一个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字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0 0000=50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 0000=1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直接连接符 12"/>
              <p:cNvSpPr/>
              <p:nvPr/>
            </p:nvSpPr>
            <p:spPr>
              <a:xfrm>
                <a:off x="2427840" y="4946400"/>
                <a:ext cx="0" cy="44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直接连接符 14"/>
              <p:cNvSpPr/>
              <p:nvPr/>
            </p:nvSpPr>
            <p:spPr>
              <a:xfrm>
                <a:off x="5099400" y="4945680"/>
                <a:ext cx="0" cy="444240"/>
              </a:xfrm>
              <a:prstGeom prst="line">
                <a:avLst/>
              </a:prstGeom>
              <a:ln w="22320">
                <a:solidFill>
                  <a:srgbClr val="ff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直接连接符 16"/>
              <p:cNvSpPr/>
              <p:nvPr/>
            </p:nvSpPr>
            <p:spPr>
              <a:xfrm>
                <a:off x="5194440" y="5317200"/>
                <a:ext cx="647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直接连接符 19"/>
              <p:cNvSpPr/>
              <p:nvPr/>
            </p:nvSpPr>
            <p:spPr>
              <a:xfrm>
                <a:off x="5513760" y="5324400"/>
                <a:ext cx="0" cy="4316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直接连接符 20"/>
              <p:cNvSpPr/>
              <p:nvPr/>
            </p:nvSpPr>
            <p:spPr>
              <a:xfrm flipH="1">
                <a:off x="5512680" y="5750280"/>
                <a:ext cx="86364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5" name="直接箭头连接符 21"/>
              <p:cNvCxnSpPr/>
              <p:nvPr/>
            </p:nvCxnSpPr>
            <p:spPr>
              <a:xfrm flipH="1" flipV="1">
                <a:off x="6367680" y="5325480"/>
                <a:ext cx="1080" cy="432360"/>
              </a:xfrm>
              <a:prstGeom prst="straightConnector1">
                <a:avLst/>
              </a:prstGeom>
              <a:ln w="12600">
                <a:solidFill>
                  <a:srgbClr val="ff0000"/>
                </a:solidFill>
                <a:miter/>
                <a:tailEnd len="med" type="arrow" w="med"/>
              </a:ln>
            </p:spPr>
          </p:cxnSp>
          <p:grpSp>
            <p:nvGrpSpPr>
              <p:cNvPr id="1066" name="组合 23"/>
              <p:cNvGrpSpPr/>
              <p:nvPr/>
            </p:nvGrpSpPr>
            <p:grpSpPr>
              <a:xfrm>
                <a:off x="2505960" y="5323680"/>
                <a:ext cx="1454040" cy="438480"/>
                <a:chOff x="2505960" y="5323680"/>
                <a:chExt cx="1454040" cy="438480"/>
              </a:xfrm>
            </p:grpSpPr>
            <p:sp>
              <p:nvSpPr>
                <p:cNvPr id="1067" name="直接连接符 15"/>
                <p:cNvSpPr/>
                <p:nvPr/>
              </p:nvSpPr>
              <p:spPr>
                <a:xfrm>
                  <a:off x="2505960" y="5323680"/>
                  <a:ext cx="647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直接连接符 17"/>
                <p:cNvSpPr/>
                <p:nvPr/>
              </p:nvSpPr>
              <p:spPr>
                <a:xfrm>
                  <a:off x="2808720" y="5330520"/>
                  <a:ext cx="0" cy="43164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直接连接符 18"/>
                <p:cNvSpPr/>
                <p:nvPr/>
              </p:nvSpPr>
              <p:spPr>
                <a:xfrm flipH="1">
                  <a:off x="2804400" y="5748840"/>
                  <a:ext cx="1151640" cy="0"/>
                </a:xfrm>
                <a:prstGeom prst="line">
                  <a:avLst/>
                </a:prstGeom>
                <a:ln w="15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70" name="直接箭头连接符 22"/>
                <p:cNvCxnSpPr/>
                <p:nvPr/>
              </p:nvCxnSpPr>
              <p:spPr>
                <a:xfrm flipH="1" flipV="1">
                  <a:off x="3959280" y="5325840"/>
                  <a:ext cx="1080" cy="432360"/>
                </a:xfrm>
                <a:prstGeom prst="straightConnector1">
                  <a:avLst/>
                </a:prstGeom>
                <a:ln w="12600">
                  <a:solidFill>
                    <a:srgbClr val="ff0000"/>
                  </a:solidFill>
                  <a:miter/>
                  <a:tailEnd len="med" type="arrow" w="med"/>
                </a:ln>
              </p:spPr>
            </p:cxnSp>
          </p:grpSp>
        </p:grpSp>
        <p:sp>
          <p:nvSpPr>
            <p:cNvPr id="1071" name="文本框 25"/>
            <p:cNvSpPr/>
            <p:nvPr/>
          </p:nvSpPr>
          <p:spPr>
            <a:xfrm>
              <a:off x="3015720" y="5420160"/>
              <a:ext cx="79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26"/>
            <p:cNvSpPr/>
            <p:nvPr/>
          </p:nvSpPr>
          <p:spPr>
            <a:xfrm>
              <a:off x="5594400" y="5421960"/>
              <a:ext cx="7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7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4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99"/>
          <p:cNvSpPr/>
          <p:nvPr/>
        </p:nvSpPr>
        <p:spPr>
          <a:xfrm>
            <a:off x="736560" y="1039680"/>
            <a:ext cx="772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把下面各数改写成用“万”或“亿”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2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50000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02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000000000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1"/>
          <p:cNvSpPr/>
          <p:nvPr/>
        </p:nvSpPr>
        <p:spPr>
          <a:xfrm>
            <a:off x="2441520" y="17287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文本框 2"/>
          <p:cNvSpPr/>
          <p:nvPr/>
        </p:nvSpPr>
        <p:spPr>
          <a:xfrm>
            <a:off x="2992320" y="22939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3"/>
          <p:cNvSpPr/>
          <p:nvPr/>
        </p:nvSpPr>
        <p:spPr>
          <a:xfrm>
            <a:off x="2486160" y="281304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4"/>
          <p:cNvSpPr/>
          <p:nvPr/>
        </p:nvSpPr>
        <p:spPr>
          <a:xfrm>
            <a:off x="3130560" y="338292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6"/>
          <p:cNvSpPr/>
          <p:nvPr/>
        </p:nvSpPr>
        <p:spPr>
          <a:xfrm>
            <a:off x="349200" y="496800"/>
            <a:ext cx="796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读出下面各数，然后把它们改写成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个人的头发 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个人的血管总长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人一年平均眨眼睛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海世博会共有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名志愿者，累计参      观人数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08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7"/>
          <p:cNvSpPr/>
          <p:nvPr/>
        </p:nvSpPr>
        <p:spPr>
          <a:xfrm>
            <a:off x="1119240" y="1754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八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，九万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8"/>
          <p:cNvSpPr/>
          <p:nvPr/>
        </p:nvSpPr>
        <p:spPr>
          <a:xfrm>
            <a:off x="1119240" y="284796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四千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0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9"/>
          <p:cNvSpPr/>
          <p:nvPr/>
        </p:nvSpPr>
        <p:spPr>
          <a:xfrm>
            <a:off x="1119240" y="3905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五千五百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5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0"/>
          <p:cNvSpPr/>
          <p:nvPr/>
        </p:nvSpPr>
        <p:spPr>
          <a:xfrm>
            <a:off x="1119240" y="5526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两百万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，七千三百零八万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30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7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8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0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6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2"/>
          <p:cNvSpPr/>
          <p:nvPr/>
        </p:nvSpPr>
        <p:spPr>
          <a:xfrm>
            <a:off x="279360" y="1454040"/>
            <a:ext cx="818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把整万的数改写成用“万”作单位的数。方法就是把个级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个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宋体"/>
              </a:rPr>
              <a:t>去掉，写成一个“万”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1:50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